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2FB-CBC4-4384-B55B-5449000F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A0F7-2305-4105-BA27-6E910231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F48-2FAB-40CA-9878-5C3F2BF6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2A2D-CC49-44F5-A239-71564262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7E2D-78E9-46EB-9414-D305D455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0608-DF34-41BE-8C38-298119B2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5F9C-433E-4A1E-8A03-91B1EFB5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004D-2DF4-4CE9-81C8-4451A596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2B88-8BB9-471D-989C-CB89DF50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2033-CB03-4372-A634-21C4FC72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ACED-F017-49D7-9A57-3627BB84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3FA-A72C-4E29-8AD0-328844CC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00FC-6E08-484A-B8C6-DA11118C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FE6B-1B16-447C-B390-29697E30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EF8C-C329-4369-8233-B3EAA098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E424-FC8C-4637-974D-AD97A5AB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F3B4-B471-4EF1-B43F-86F42AC4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D386-910E-4059-B0DC-46CC63C1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10F-E55F-4964-9B06-D0BDE298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E8F-19F2-4B03-9535-A9A3E135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11A-9612-4339-9883-C31AD940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E4A-39A4-426F-A084-F72D30C6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B4E-78B0-410A-982B-9261803B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1E7-295D-4873-BEFA-99394A5A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097A-C460-4005-96EF-404B12A76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D77F-C765-4567-BEE5-8426EC2AF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335772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00cc00"/>
                </a:solidFill>
                <a:latin typeface="Times New Roman"/>
              </a:rPr>
              <a:t>Алгоритмическое решение задач</a:t>
            </a:r>
            <a:endParaRPr b="0" i="1" lang="en-US" sz="49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620280"/>
            <a:ext cx="7696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 Black"/>
              </a:rPr>
              <a:t>Линейный тип алгоритма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6192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лгоритм, в котором команды выполняются в порядке их естественного следования друг за другом независимо от каких-либо условий является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алгоритмом линейного тип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52" descr="lf9.gif"/>
          <p:cNvPicPr/>
          <p:nvPr/>
        </p:nvPicPr>
        <p:blipFill>
          <a:blip r:embed="rId1"/>
          <a:stretch/>
        </p:blipFill>
        <p:spPr>
          <a:xfrm>
            <a:off x="6443640" y="1773360"/>
            <a:ext cx="2425680" cy="20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250920" y="3860640"/>
            <a:ext cx="8569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пример «решение уравнения при определенных значениях» образуется линия (цепочка) действий. Отсюда и произошло название линей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опускает все формы представления: табличную, словесную и графическу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imes New Roman"/>
              </a:rPr>
              <a:t>Линейный алгоритм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9" name="Овал 4"/>
          <p:cNvSpPr/>
          <p:nvPr/>
        </p:nvSpPr>
        <p:spPr>
          <a:xfrm>
            <a:off x="3492360" y="1844640"/>
            <a:ext cx="2286000" cy="50004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араллелограмм 5"/>
          <p:cNvSpPr/>
          <p:nvPr/>
        </p:nvSpPr>
        <p:spPr>
          <a:xfrm>
            <a:off x="3502080" y="2644920"/>
            <a:ext cx="2286000" cy="500040"/>
          </a:xfrm>
          <a:prstGeom prst="parallelogram">
            <a:avLst>
              <a:gd name="adj" fmla="val 24996"/>
            </a:avLst>
          </a:prstGeom>
          <a:solidFill>
            <a:srgbClr val="f2f2f2"/>
          </a:solidFill>
          <a:ln w="2844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Ввод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3502080" y="3430440"/>
            <a:ext cx="2286000" cy="500040"/>
          </a:xfrm>
          <a:prstGeom prst="rect">
            <a:avLst/>
          </a:prstGeom>
          <a:solidFill>
            <a:srgbClr val="ffccff"/>
          </a:solidFill>
          <a:ln w="2844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3502080" y="4216320"/>
            <a:ext cx="2286000" cy="500040"/>
          </a:xfrm>
          <a:prstGeom prst="rect">
            <a:avLst/>
          </a:prstGeom>
          <a:solidFill>
            <a:srgbClr val="ffccff"/>
          </a:solidFill>
          <a:ln w="2844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араллелограмм 8"/>
          <p:cNvSpPr/>
          <p:nvPr/>
        </p:nvSpPr>
        <p:spPr>
          <a:xfrm>
            <a:off x="3502080" y="5002200"/>
            <a:ext cx="2286000" cy="500040"/>
          </a:xfrm>
          <a:prstGeom prst="parallelogram">
            <a:avLst>
              <a:gd name="adj" fmla="val 24996"/>
            </a:avLst>
          </a:prstGeom>
          <a:solidFill>
            <a:srgbClr val="f2f2f2"/>
          </a:solidFill>
          <a:ln w="2844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Вывод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9"/>
          <p:cNvSpPr/>
          <p:nvPr/>
        </p:nvSpPr>
        <p:spPr>
          <a:xfrm>
            <a:off x="3492360" y="5805360"/>
            <a:ext cx="2286000" cy="500040"/>
          </a:xfrm>
          <a:prstGeom prst="ellipse">
            <a:avLst/>
          </a:prstGeom>
          <a:solidFill>
            <a:srgbClr val="f2f2f2"/>
          </a:solidFill>
          <a:ln w="2844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Comic Sans MS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трелка вниз 14"/>
          <p:cNvSpPr/>
          <p:nvPr/>
        </p:nvSpPr>
        <p:spPr>
          <a:xfrm>
            <a:off x="4430880" y="2359080"/>
            <a:ext cx="42840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e9273"/>
          </a:solidFill>
          <a:ln w="20160">
            <a:solidFill>
              <a:srgbClr val="32525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низ 20"/>
          <p:cNvSpPr/>
          <p:nvPr/>
        </p:nvSpPr>
        <p:spPr>
          <a:xfrm>
            <a:off x="4429080" y="3139920"/>
            <a:ext cx="42876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e9273"/>
          </a:solidFill>
          <a:ln w="20160">
            <a:solidFill>
              <a:srgbClr val="32525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трелка вниз 22"/>
          <p:cNvSpPr/>
          <p:nvPr/>
        </p:nvSpPr>
        <p:spPr>
          <a:xfrm>
            <a:off x="4430880" y="3930480"/>
            <a:ext cx="42840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e9273"/>
          </a:solidFill>
          <a:ln w="20160">
            <a:solidFill>
              <a:srgbClr val="32525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трелка вниз 23"/>
          <p:cNvSpPr/>
          <p:nvPr/>
        </p:nvSpPr>
        <p:spPr>
          <a:xfrm>
            <a:off x="4430880" y="4716360"/>
            <a:ext cx="42840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e9273"/>
          </a:solidFill>
          <a:ln w="20160">
            <a:solidFill>
              <a:srgbClr val="32525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низ 24"/>
          <p:cNvSpPr/>
          <p:nvPr/>
        </p:nvSpPr>
        <p:spPr>
          <a:xfrm>
            <a:off x="4430880" y="5502240"/>
            <a:ext cx="42840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e9273"/>
          </a:solidFill>
          <a:ln w="20160">
            <a:solidFill>
              <a:srgbClr val="32525d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5331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imes New Roman"/>
              </a:rPr>
              <a:t>Ветвящийся тип алгоритма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58975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Возможность выбора в зависимости от выполнения некоторых условий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378936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акой алгоритм используется когда решение задачи может иметь два вариа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пускает две формы представления: словесную и графическ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13" descr="mission_1.jpg"/>
          <p:cNvPicPr/>
          <p:nvPr/>
        </p:nvPicPr>
        <p:blipFill>
          <a:blip r:embed="rId1"/>
          <a:stretch/>
        </p:blipFill>
        <p:spPr>
          <a:xfrm>
            <a:off x="6300720" y="1844640"/>
            <a:ext cx="2481480" cy="198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98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imes New Roman"/>
              </a:rPr>
              <a:t>Ветвящийся алгоритм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5" name="Прямая со стрелкой 77" descr=""/>
          <p:cNvPicPr/>
          <p:nvPr/>
        </p:nvPicPr>
        <p:blipFill>
          <a:blip r:embed="rId1"/>
          <a:stretch/>
        </p:blipFill>
        <p:spPr>
          <a:xfrm>
            <a:off x="2765520" y="4621320"/>
            <a:ext cx="304560" cy="50472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ая со стрелкой 78" descr=""/>
          <p:cNvPicPr/>
          <p:nvPr/>
        </p:nvPicPr>
        <p:blipFill>
          <a:blip r:embed="rId2"/>
          <a:stretch/>
        </p:blipFill>
        <p:spPr>
          <a:xfrm>
            <a:off x="6051600" y="4621320"/>
            <a:ext cx="304920" cy="50472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ая со стрелкой 62" descr=""/>
          <p:cNvPicPr/>
          <p:nvPr/>
        </p:nvPicPr>
        <p:blipFill>
          <a:blip r:embed="rId3"/>
          <a:stretch/>
        </p:blipFill>
        <p:spPr>
          <a:xfrm>
            <a:off x="4411800" y="3333600"/>
            <a:ext cx="304560" cy="43992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ая со стрелкой 50" descr=""/>
          <p:cNvPicPr/>
          <p:nvPr/>
        </p:nvPicPr>
        <p:blipFill>
          <a:blip r:embed="rId4"/>
          <a:stretch/>
        </p:blipFill>
        <p:spPr>
          <a:xfrm>
            <a:off x="4411800" y="2762280"/>
            <a:ext cx="304560" cy="50472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ая со стрелкой 65" descr=""/>
          <p:cNvPicPr/>
          <p:nvPr/>
        </p:nvPicPr>
        <p:blipFill>
          <a:blip r:embed="rId5"/>
          <a:stretch/>
        </p:blipFill>
        <p:spPr>
          <a:xfrm>
            <a:off x="4411800" y="5546880"/>
            <a:ext cx="304560" cy="43956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9"/>
          <p:cNvSpPr/>
          <p:nvPr/>
        </p:nvSpPr>
        <p:spPr>
          <a:xfrm>
            <a:off x="5135400" y="4233960"/>
            <a:ext cx="2194200" cy="428400"/>
          </a:xfrm>
          <a:prstGeom prst="rect">
            <a:avLst/>
          </a:prstGeom>
          <a:solidFill>
            <a:srgbClr val="ffcc66"/>
          </a:solidFill>
          <a:ln w="115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0"/>
          <p:cNvSpPr/>
          <p:nvPr/>
        </p:nvSpPr>
        <p:spPr>
          <a:xfrm>
            <a:off x="1920960" y="4233960"/>
            <a:ext cx="2143080" cy="428400"/>
          </a:xfrm>
          <a:prstGeom prst="rect">
            <a:avLst/>
          </a:prstGeom>
          <a:solidFill>
            <a:srgbClr val="ffcc66"/>
          </a:solidFill>
          <a:ln w="115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Прямая со стрелкой 18" descr=""/>
          <p:cNvPicPr/>
          <p:nvPr/>
        </p:nvPicPr>
        <p:blipFill>
          <a:blip r:embed="rId6"/>
          <a:stretch/>
        </p:blipFill>
        <p:spPr>
          <a:xfrm>
            <a:off x="4411800" y="2048040"/>
            <a:ext cx="304560" cy="652320"/>
          </a:xfrm>
          <a:prstGeom prst="rect">
            <a:avLst/>
          </a:prstGeom>
          <a:ln w="0">
            <a:noFill/>
          </a:ln>
        </p:spPr>
      </p:pic>
      <p:pic>
        <p:nvPicPr>
          <p:cNvPr id="163" name="Соединительная линия уступом 24" descr=""/>
          <p:cNvPicPr/>
          <p:nvPr/>
        </p:nvPicPr>
        <p:blipFill>
          <a:blip r:embed="rId7"/>
          <a:stretch/>
        </p:blipFill>
        <p:spPr>
          <a:xfrm>
            <a:off x="2838600" y="3790800"/>
            <a:ext cx="645840" cy="622440"/>
          </a:xfrm>
          <a:prstGeom prst="rect">
            <a:avLst/>
          </a:prstGeom>
          <a:ln w="0">
            <a:noFill/>
          </a:ln>
        </p:spPr>
      </p:pic>
      <p:pic>
        <p:nvPicPr>
          <p:cNvPr id="164" name="Соединительная линия уступом 31" descr=""/>
          <p:cNvPicPr/>
          <p:nvPr/>
        </p:nvPicPr>
        <p:blipFill>
          <a:blip r:embed="rId8"/>
          <a:stretch/>
        </p:blipFill>
        <p:spPr>
          <a:xfrm>
            <a:off x="5643720" y="3790800"/>
            <a:ext cx="749160" cy="62244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ая соединительная линия 36" descr=""/>
          <p:cNvPicPr/>
          <p:nvPr/>
        </p:nvPicPr>
        <p:blipFill>
          <a:blip r:embed="rId9"/>
          <a:stretch/>
        </p:blipFill>
        <p:spPr>
          <a:xfrm>
            <a:off x="2851200" y="4900680"/>
            <a:ext cx="3419280" cy="15228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ая со стрелкой 38" descr=""/>
          <p:cNvPicPr/>
          <p:nvPr/>
        </p:nvPicPr>
        <p:blipFill>
          <a:blip r:embed="rId10"/>
          <a:stretch/>
        </p:blipFill>
        <p:spPr>
          <a:xfrm>
            <a:off x="4411800" y="4906800"/>
            <a:ext cx="304560" cy="579600"/>
          </a:xfrm>
          <a:prstGeom prst="rect">
            <a:avLst/>
          </a:prstGeom>
          <a:ln w="0">
            <a:noFill/>
          </a:ln>
        </p:spPr>
      </p:pic>
      <p:sp>
        <p:nvSpPr>
          <p:cNvPr id="167" name="Овал 39"/>
          <p:cNvSpPr/>
          <p:nvPr/>
        </p:nvSpPr>
        <p:spPr>
          <a:xfrm>
            <a:off x="3492360" y="1947960"/>
            <a:ext cx="2071800" cy="357120"/>
          </a:xfrm>
          <a:prstGeom prst="ellipse">
            <a:avLst/>
          </a:prstGeom>
          <a:solidFill>
            <a:srgbClr val="ffffff"/>
          </a:solidFill>
          <a:ln w="115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Ромб 8"/>
          <p:cNvSpPr/>
          <p:nvPr/>
        </p:nvSpPr>
        <p:spPr>
          <a:xfrm>
            <a:off x="3349800" y="3591000"/>
            <a:ext cx="2428560" cy="500040"/>
          </a:xfrm>
          <a:prstGeom prst="diamond">
            <a:avLst/>
          </a:prstGeom>
          <a:solidFill>
            <a:srgbClr val="ffcc66"/>
          </a:solidFill>
          <a:ln w="115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У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араллелограмм 46"/>
          <p:cNvSpPr/>
          <p:nvPr/>
        </p:nvSpPr>
        <p:spPr>
          <a:xfrm>
            <a:off x="3492360" y="2519280"/>
            <a:ext cx="2143440" cy="285840"/>
          </a:xfrm>
          <a:prstGeom prst="parallelogram">
            <a:avLst>
              <a:gd name="adj" fmla="val 24996"/>
            </a:avLst>
          </a:prstGeom>
          <a:solidFill>
            <a:srgbClr val="ffffff"/>
          </a:solidFill>
          <a:ln w="115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Ввод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араллелограмм 47"/>
          <p:cNvSpPr/>
          <p:nvPr/>
        </p:nvSpPr>
        <p:spPr>
          <a:xfrm>
            <a:off x="3492360" y="5305320"/>
            <a:ext cx="2143440" cy="285840"/>
          </a:xfrm>
          <a:prstGeom prst="parallelogram">
            <a:avLst>
              <a:gd name="adj" fmla="val 24996"/>
            </a:avLst>
          </a:prstGeom>
          <a:solidFill>
            <a:srgbClr val="ffffff"/>
          </a:solidFill>
          <a:ln w="115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Вывод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52"/>
          <p:cNvSpPr/>
          <p:nvPr/>
        </p:nvSpPr>
        <p:spPr>
          <a:xfrm>
            <a:off x="3492360" y="3090960"/>
            <a:ext cx="2194200" cy="285480"/>
          </a:xfrm>
          <a:prstGeom prst="rect">
            <a:avLst/>
          </a:prstGeom>
          <a:solidFill>
            <a:srgbClr val="ffffff"/>
          </a:solidFill>
          <a:ln w="115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64"/>
          <p:cNvSpPr/>
          <p:nvPr/>
        </p:nvSpPr>
        <p:spPr>
          <a:xfrm>
            <a:off x="3492360" y="5805360"/>
            <a:ext cx="2071800" cy="357480"/>
          </a:xfrm>
          <a:prstGeom prst="ellipse">
            <a:avLst/>
          </a:prstGeom>
          <a:solidFill>
            <a:srgbClr val="ffffff"/>
          </a:solidFill>
          <a:ln w="115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Кон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4"/>
          <p:cNvSpPr/>
          <p:nvPr/>
        </p:nvSpPr>
        <p:spPr>
          <a:xfrm>
            <a:off x="5492880" y="3448080"/>
            <a:ext cx="7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5"/>
          <p:cNvSpPr/>
          <p:nvPr/>
        </p:nvSpPr>
        <p:spPr>
          <a:xfrm>
            <a:off x="2992320" y="344808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3640" y="5331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imes New Roman"/>
              </a:rPr>
              <a:t>Циклический тип алгоритма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5905440" cy="27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оставленный с использованием многократных повторений одних и тех же действий (циклов)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4365360"/>
            <a:ext cx="856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рма представления может быть выбрана как словесная, так и графичес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8" descr="C:\Program Files\Microsoft Office\MEDIA\CAGCAT10\j0234131.wmf"/>
          <p:cNvPicPr/>
          <p:nvPr/>
        </p:nvPicPr>
        <p:blipFill>
          <a:blip r:embed="rId1"/>
          <a:stretch/>
        </p:blipFill>
        <p:spPr>
          <a:xfrm>
            <a:off x="6372360" y="1773360"/>
            <a:ext cx="2166840" cy="230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imes New Roman"/>
              </a:rPr>
              <a:t>Циклический алгоритм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80" name="Прямая со стрелкой 18" descr=""/>
          <p:cNvPicPr/>
          <p:nvPr/>
        </p:nvPicPr>
        <p:blipFill>
          <a:blip r:embed="rId1"/>
          <a:stretch/>
        </p:blipFill>
        <p:spPr>
          <a:xfrm>
            <a:off x="4419720" y="2925720"/>
            <a:ext cx="296640" cy="75564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ая со стрелкой 19" descr=""/>
          <p:cNvPicPr/>
          <p:nvPr/>
        </p:nvPicPr>
        <p:blipFill>
          <a:blip r:embed="rId2"/>
          <a:stretch/>
        </p:blipFill>
        <p:spPr>
          <a:xfrm>
            <a:off x="4419720" y="2603520"/>
            <a:ext cx="296640" cy="60948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ая со стрелкой 20" descr=""/>
          <p:cNvPicPr/>
          <p:nvPr/>
        </p:nvPicPr>
        <p:blipFill>
          <a:blip r:embed="rId3"/>
          <a:stretch/>
        </p:blipFill>
        <p:spPr>
          <a:xfrm>
            <a:off x="4419720" y="5389560"/>
            <a:ext cx="304560" cy="438120"/>
          </a:xfrm>
          <a:prstGeom prst="rect">
            <a:avLst/>
          </a:prstGeom>
          <a:ln w="0">
            <a:noFill/>
          </a:ln>
        </p:spPr>
      </p:pic>
      <p:pic>
        <p:nvPicPr>
          <p:cNvPr id="183" name="Прямая со стрелкой 23" descr=""/>
          <p:cNvPicPr/>
          <p:nvPr/>
        </p:nvPicPr>
        <p:blipFill>
          <a:blip r:embed="rId4"/>
          <a:stretch/>
        </p:blipFill>
        <p:spPr>
          <a:xfrm>
            <a:off x="4419720" y="1884240"/>
            <a:ext cx="304560" cy="650880"/>
          </a:xfrm>
          <a:prstGeom prst="rect">
            <a:avLst/>
          </a:prstGeom>
          <a:ln w="0">
            <a:noFill/>
          </a:ln>
        </p:spPr>
      </p:pic>
      <p:pic>
        <p:nvPicPr>
          <p:cNvPr id="184" name="Соединительная линия уступом 24" descr=""/>
          <p:cNvPicPr/>
          <p:nvPr/>
        </p:nvPicPr>
        <p:blipFill>
          <a:blip r:embed="rId5"/>
          <a:stretch/>
        </p:blipFill>
        <p:spPr>
          <a:xfrm>
            <a:off x="4319640" y="2889360"/>
            <a:ext cx="2916360" cy="2166840"/>
          </a:xfrm>
          <a:prstGeom prst="rect">
            <a:avLst/>
          </a:prstGeom>
          <a:ln w="0">
            <a:noFill/>
          </a:ln>
        </p:spPr>
      </p:pic>
      <p:pic>
        <p:nvPicPr>
          <p:cNvPr id="185" name="Соединительная линия уступом 31" descr=""/>
          <p:cNvPicPr/>
          <p:nvPr/>
        </p:nvPicPr>
        <p:blipFill>
          <a:blip r:embed="rId6"/>
          <a:stretch/>
        </p:blipFill>
        <p:spPr>
          <a:xfrm>
            <a:off x="2884320" y="3648240"/>
            <a:ext cx="858960" cy="1833480"/>
          </a:xfrm>
          <a:prstGeom prst="rect">
            <a:avLst/>
          </a:prstGeom>
          <a:ln w="0">
            <a:noFill/>
          </a:ln>
        </p:spPr>
      </p:pic>
      <p:sp>
        <p:nvSpPr>
          <p:cNvPr id="186" name="Овал 28"/>
          <p:cNvSpPr/>
          <p:nvPr/>
        </p:nvSpPr>
        <p:spPr>
          <a:xfrm>
            <a:off x="3492360" y="1773360"/>
            <a:ext cx="2071800" cy="357120"/>
          </a:xfrm>
          <a:prstGeom prst="ellipse">
            <a:avLst/>
          </a:prstGeom>
          <a:solidFill>
            <a:srgbClr val="ffffff"/>
          </a:solidFill>
          <a:ln w="115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араллелограмм 30"/>
          <p:cNvSpPr/>
          <p:nvPr/>
        </p:nvSpPr>
        <p:spPr>
          <a:xfrm>
            <a:off x="3492360" y="2349360"/>
            <a:ext cx="2143440" cy="285840"/>
          </a:xfrm>
          <a:prstGeom prst="parallelogram">
            <a:avLst>
              <a:gd name="adj" fmla="val 24996"/>
            </a:avLst>
          </a:prstGeom>
          <a:solidFill>
            <a:srgbClr val="ffffff"/>
          </a:solidFill>
          <a:ln w="115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Ввод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араллелограмм 31"/>
          <p:cNvSpPr/>
          <p:nvPr/>
        </p:nvSpPr>
        <p:spPr>
          <a:xfrm>
            <a:off x="3600360" y="5143680"/>
            <a:ext cx="2143080" cy="285480"/>
          </a:xfrm>
          <a:prstGeom prst="parallelogram">
            <a:avLst>
              <a:gd name="adj" fmla="val 25023"/>
            </a:avLst>
          </a:prstGeom>
          <a:solidFill>
            <a:srgbClr val="ffffff"/>
          </a:solidFill>
          <a:ln w="115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Вывод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Прямоугольник 32"/>
          <p:cNvGrpSpPr/>
          <p:nvPr/>
        </p:nvGrpSpPr>
        <p:grpSpPr>
          <a:xfrm>
            <a:off x="5292720" y="4221000"/>
            <a:ext cx="2219400" cy="309600"/>
            <a:chOff x="5292720" y="4221000"/>
            <a:chExt cx="2219400" cy="309600"/>
          </a:xfrm>
        </p:grpSpPr>
        <p:pic>
          <p:nvPicPr>
            <p:cNvPr id="190" name="Прямоугольник 32" descr=""/>
            <p:cNvPicPr/>
            <p:nvPr/>
          </p:nvPicPr>
          <p:blipFill>
            <a:blip r:embed="rId7"/>
            <a:stretch/>
          </p:blipFill>
          <p:spPr>
            <a:xfrm>
              <a:off x="5292720" y="4221000"/>
              <a:ext cx="2219400" cy="3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306760" y="4235400"/>
              <a:ext cx="2192400" cy="2858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Действия цик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Овал 33"/>
          <p:cNvSpPr/>
          <p:nvPr/>
        </p:nvSpPr>
        <p:spPr>
          <a:xfrm>
            <a:off x="3500280" y="5643720"/>
            <a:ext cx="2071800" cy="357120"/>
          </a:xfrm>
          <a:prstGeom prst="ellipse">
            <a:avLst/>
          </a:prstGeom>
          <a:solidFill>
            <a:srgbClr val="ffffff"/>
          </a:solidFill>
          <a:ln w="115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Кон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4"/>
          <p:cNvSpPr/>
          <p:nvPr/>
        </p:nvSpPr>
        <p:spPr>
          <a:xfrm>
            <a:off x="5500800" y="328608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5"/>
          <p:cNvSpPr/>
          <p:nvPr/>
        </p:nvSpPr>
        <p:spPr>
          <a:xfrm>
            <a:off x="3000240" y="328608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19640" y="3429000"/>
            <a:ext cx="2412720" cy="612720"/>
          </a:xfrm>
          <a:prstGeom prst="flowChartPreparation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араметры ци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Прямая со стрелкой 19" descr=""/>
          <p:cNvPicPr/>
          <p:nvPr/>
        </p:nvPicPr>
        <p:blipFill>
          <a:blip r:embed="rId8"/>
          <a:stretch/>
        </p:blipFill>
        <p:spPr>
          <a:xfrm>
            <a:off x="6264360" y="4508640"/>
            <a:ext cx="296640" cy="60948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ая со стрелкой 19" descr=""/>
          <p:cNvPicPr/>
          <p:nvPr/>
        </p:nvPicPr>
        <p:blipFill>
          <a:blip r:embed="rId9"/>
          <a:stretch/>
        </p:blipFill>
        <p:spPr>
          <a:xfrm>
            <a:off x="6264360" y="3681360"/>
            <a:ext cx="323640" cy="755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832360" y="3681360"/>
            <a:ext cx="684360" cy="34920"/>
          </a:xfrm>
          <a:prstGeom prst="line">
            <a:avLst/>
          </a:prstGeom>
          <a:ln w="57240">
            <a:solidFill>
              <a:srgbClr val="97cd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3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Циклический алгоритм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844640"/>
            <a:ext cx="828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Цикл до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Цикл пока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Цикл для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492000" y="2349000"/>
            <a:ext cx="5059800" cy="2087640"/>
            <a:chOff x="3492000" y="2349000"/>
            <a:chExt cx="5059800" cy="2087640"/>
          </a:xfrm>
        </p:grpSpPr>
        <p:sp>
          <p:nvSpPr>
            <p:cNvPr id="202" name=""/>
            <p:cNvSpPr/>
            <p:nvPr/>
          </p:nvSpPr>
          <p:spPr>
            <a:xfrm flipH="1">
              <a:off x="3492000" y="2853000"/>
              <a:ext cx="42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03960" y="2573640"/>
              <a:ext cx="59040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913920" y="2573640"/>
              <a:ext cx="5900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4503960" y="2349000"/>
              <a:ext cx="0" cy="22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13920" y="2853000"/>
              <a:ext cx="59004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503960" y="2852640"/>
              <a:ext cx="59040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94360" y="2853000"/>
              <a:ext cx="42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29320" y="3359520"/>
              <a:ext cx="1348920" cy="36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4503960" y="3108240"/>
              <a:ext cx="0" cy="25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98200" y="3727080"/>
              <a:ext cx="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15920" y="2855880"/>
              <a:ext cx="0" cy="158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92360" y="2855880"/>
              <a:ext cx="0" cy="10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92360" y="3867120"/>
              <a:ext cx="101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430760" y="3157200"/>
              <a:ext cx="0" cy="15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30760" y="3680640"/>
              <a:ext cx="0" cy="15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59280" y="2787120"/>
              <a:ext cx="366480" cy="23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15560" y="2787120"/>
              <a:ext cx="24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80760" y="2551320"/>
              <a:ext cx="243360" cy="23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24480" y="2787120"/>
              <a:ext cx="42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708320" y="4167720"/>
              <a:ext cx="84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415560" y="2349000"/>
              <a:ext cx="2135880" cy="2087640"/>
              <a:chOff x="6415560" y="2349000"/>
              <a:chExt cx="2135880" cy="2087640"/>
            </a:xfrm>
          </p:grpSpPr>
          <p:sp>
            <p:nvSpPr>
              <p:cNvPr id="223" name=""/>
              <p:cNvSpPr/>
              <p:nvPr/>
            </p:nvSpPr>
            <p:spPr>
              <a:xfrm>
                <a:off x="6869880" y="3313080"/>
                <a:ext cx="1283400" cy="361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658920" y="2551320"/>
                <a:ext cx="366480" cy="23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025400" y="2551320"/>
                <a:ext cx="85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025400" y="3022560"/>
                <a:ext cx="793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7819560" y="2787120"/>
                <a:ext cx="304560" cy="23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7427160" y="2349000"/>
                <a:ext cx="0" cy="20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427160" y="3022560"/>
                <a:ext cx="0" cy="20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6415560" y="2820600"/>
                <a:ext cx="1011600" cy="1010160"/>
                <a:chOff x="6415560" y="2820600"/>
                <a:chExt cx="1011600" cy="10101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415560" y="2820600"/>
                  <a:ext cx="0" cy="1010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415560" y="3830760"/>
                  <a:ext cx="1011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8551440" y="2820600"/>
                <a:ext cx="0" cy="134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708320" y="4167720"/>
                <a:ext cx="0" cy="26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"/>
          <p:cNvSpPr/>
          <p:nvPr/>
        </p:nvSpPr>
        <p:spPr>
          <a:xfrm>
            <a:off x="1187280" y="2708280"/>
            <a:ext cx="1143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42920" y="3716280"/>
            <a:ext cx="1440000" cy="600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6364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39640" y="4005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39640" y="3068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30686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40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43280" y="400536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3645000"/>
            <a:ext cx="7999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68360" y="3716280"/>
            <a:ext cx="800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364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87280" y="3860640"/>
            <a:ext cx="1081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</a:rPr>
              <a:t>У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58920" y="29242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ело ци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24360" y="342900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ело ци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2708280"/>
            <a:ext cx="1081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</a:rPr>
              <a:t>У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48360" y="33577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ело ци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20000" y="2708280"/>
            <a:ext cx="86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=1,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2492280"/>
            <a:ext cx="800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00720" y="3068640"/>
            <a:ext cx="7999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732720" y="2997360"/>
            <a:ext cx="7999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56720" y="2492280"/>
            <a:ext cx="799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imes New Roman"/>
              </a:rPr>
              <a:t>4. Классификация языков программирования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78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8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языки ассемблера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8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ниверсальные языки высокого уровня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SIC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TRAN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8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языки более «низкого» уровня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scal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и С (и их объектно-ориентированные расширения, в частности, C++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8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омандные языки баз данных и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pper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8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бъектно-ориентированные языки четвертого поколения (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5331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6. </a:t>
            </a:r>
            <a:r>
              <a:rPr b="1" lang="en-US" sz="4400" spc="-1" strike="noStrike">
                <a:solidFill>
                  <a:srgbClr val="00cc00"/>
                </a:solidFill>
                <a:latin typeface="Times New Roman"/>
              </a:rPr>
              <a:t>Visual Basic for Applications</a:t>
            </a:r>
            <a:r>
              <a:rPr b="0" lang="en-US" sz="3300" spc="-1" strike="noStrike">
                <a:solidFill>
                  <a:srgbClr val="336666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381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sual Basic for Application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B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ая система визуального программирования для создания прикладных программ в сред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crosoft Offic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помощью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B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можно создавать объекты управления графического интерфейса пользователя, задавать и изменять свойства объектов, подключать к ним соответствующий программный код. Методика программирования с использованием средст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B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водится к следующем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здание объектов управления и контроля (диалоговые окна, пиктограммы, меню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ка процедур, используемых при вызове объ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ладные программы на язык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B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оперируют со следующими понятия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ъект управления и контроля — экранные формы, графические элементы внутри форм, в том числе текстовые окна, линейки прокрутки, пиктограммы, окна-списки, командные кнопки и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йство (параметр) — характеристика или атрибут объекта управления;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чение свойств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бытие — действие, которое распознается объектом управления; метод доступа — аналогичное понятиям функция, оператор, который воздействует всегда на объект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— подпрограммы и функции, произвольная последовательность операто­ро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B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 процедуры делятся на событийные (запускаются при наступлении событий) 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бщ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оцеду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400" spc="-1" strike="noStrike">
                <a:solidFill>
                  <a:srgbClr val="00cc00"/>
                </a:solidFill>
                <a:latin typeface="Times New Roman"/>
              </a:rPr>
              <a:t>5. О</a:t>
            </a:r>
            <a:r>
              <a:rPr b="1" lang="ru-RU" sz="3400" spc="-1" strike="noStrike">
                <a:solidFill>
                  <a:srgbClr val="00cc00"/>
                </a:solidFill>
                <a:latin typeface="Times New Roman"/>
              </a:rPr>
              <a:t>бъектно-ориентированный подход в информационных технологиях.</a:t>
            </a:r>
            <a:r>
              <a:rPr b="0" lang="ru-RU" sz="2100" spc="-1" strike="noStrike">
                <a:solidFill>
                  <a:srgbClr val="336666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Инкапсуляцией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называется объединение в объекте его свойств и возможных над ним операций (методов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Объект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, с одной стороны, обладает определенными свойствами, которые характеризуют его состояние в данный момент времени, а с другой стороны, над ним возможны операции, которые приводят к изменению этих свойст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Методы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бъекта, т.е. набор операций, которой он может выполнять, инкапсулирующие одинаковый перечень свойств операций, объединяются в классы. Каждый отдельный объект является экземпляром класса. Экземпляры класса могут иметь отличающиеся значение свойст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Полиморфизм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(«много форм») - одна и та же операция над объектами различных классов может выполняться различными метод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сновной единицей в объектно-ориентированном программировании является объект, который заключает в себе, инкапсулирует как описывающие его данные (свойства), так и средства обработки этих данных (методы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бъектно-ориентированное программирование по своей сути - это создание, приложений из объектов. Одни объекты приходится полностью создавать самостоятельно, другие можно взять в готовом виде из разнообразных библиотек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ажное место в технологии объектно-ориентированного программирования занимает 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событие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. В качестве событий могут  рассматриваться щелчок кнопкой мыши на объекте, нажатие определенной клавиши, открытие документа и т.д. в качестве реакции на события вызывает определенная процедура, которая может изменить свойства объекта, вызывать его методы и т.д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аиболее распространенными системами объектно-ориентированного визуального программирования являются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Microsoft Visual Basic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orland Delphi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9640" y="981000"/>
            <a:ext cx="76964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cc00"/>
                </a:solidFill>
                <a:latin typeface="Times New Roman"/>
              </a:rPr>
              <a:t>Содержание: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75"/>
              </a:spcBef>
              <a:buClr>
                <a:srgbClr val="008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Этапы решения задач на компьютер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75"/>
              </a:spcBef>
              <a:buClr>
                <a:srgbClr val="008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нятие алгоритма. Исполнители алгоритмов. Свойства алгоритмо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75"/>
              </a:spcBef>
              <a:buClr>
                <a:srgbClr val="008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Типы алгоритмов и формы их представлен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75"/>
              </a:spcBef>
              <a:buClr>
                <a:srgbClr val="008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лассификация языков программиров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75"/>
              </a:spcBef>
              <a:buClr>
                <a:srgbClr val="008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бъектно-ориентированный подход в информационных технология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75"/>
              </a:spcBef>
              <a:buClr>
                <a:srgbClr val="008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sual Basic for Applications на примере MS Exc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1. </a:t>
            </a:r>
            <a:r>
              <a:rPr b="1" lang="kk-KZ" sz="4400" spc="-1" strike="noStrike">
                <a:solidFill>
                  <a:srgbClr val="00cc00"/>
                </a:solidFill>
                <a:latin typeface="Times New Roman"/>
              </a:rPr>
              <a:t>Э</a:t>
            </a: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тапы решения задач на компьютере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80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8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остановка задач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8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Математическая формализация (выбор метода решения)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8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азработка алгоритм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8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оставление программы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8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тладка и тестирование программы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8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оведение расчетов и анализ полученных результат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imes New Roman"/>
              </a:rPr>
              <a:t>2.   Понятие алгоритма.</a:t>
            </a:r>
            <a:r>
              <a:rPr b="1" lang="en-US" sz="25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6408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a50021"/>
                </a:solidFill>
                <a:latin typeface="Arial"/>
              </a:rPr>
              <a:t>Алгоритм </a:t>
            </a:r>
            <a:r>
              <a:rPr b="0" lang="ru-RU" sz="2200" spc="-1" strike="noStrike">
                <a:solidFill>
                  <a:srgbClr val="000080"/>
                </a:solidFill>
                <a:latin typeface="Arial"/>
              </a:rPr>
              <a:t>–</a:t>
            </a:r>
            <a:r>
              <a:rPr b="0" lang="ru-RU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это последовательность действий, приводящих к решению поставленной задачи. (Algorithmi  (Аль-Хорезми) </a:t>
            </a:r>
            <a:r>
              <a:rPr b="0" lang="ru-RU" sz="2200" spc="-1" strike="noStrike">
                <a:solidFill>
                  <a:srgbClr val="000080"/>
                </a:solidFill>
                <a:latin typeface="Arial"/>
              </a:rPr>
              <a:t>–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среднеазиатский математик  IX в., впервые описавший правила выполнения четырёх арифметических действий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48360" y="1628640"/>
            <a:ext cx="1668600" cy="2305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4000" y="3860640"/>
            <a:ext cx="86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Все наши действия, направленные на выполнение какой-либо задачи, подчинены определённым алгоритмам. Рецепт приготовления вкусного блюда, инструкция по сборке мебели, описание химического опыта, инструкции и описания из журналов по рукоделью, вязке и шитью, руководства по игровым и полезным компьютерным программам…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696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ccff"/>
                </a:solidFill>
                <a:latin typeface="Times New Roman"/>
              </a:rPr>
              <a:t>Свойства алгоритмов</a:t>
            </a: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разрывность, отделённость одного действия от другог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детерминированность) -Каждая команда алгоритма должна определять однозначное действие исполнител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нечн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каждое отдельное действие (и весь алгоритм) должно быть выполнено (имеет предел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получение результата после конечного числа шагов, предусматривающее все возможные вариант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возможность решать множество однотипных задач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Недостатки </a:t>
            </a:r>
            <a:r>
              <a:rPr b="1" i="1" lang="en-US" sz="2200" spc="-1" strike="noStrike">
                <a:solidFill>
                  <a:srgbClr val="a50021"/>
                </a:solidFill>
                <a:latin typeface="Arial"/>
              </a:rPr>
              <a:t>словесного способа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ие описания строго не формализу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адают многословностью запис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пускают неоднозначность толк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a50021"/>
                </a:solidFill>
                <a:latin typeface="Arial"/>
              </a:rPr>
              <a:t>Графический способ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писи – в виде блок-сх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Блок-схем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последовательность блоков, соединенных линиями передачи (ветвя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a50021"/>
                </a:solidFill>
                <a:latin typeface="Arial"/>
              </a:rPr>
              <a:t>Табличный способ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писи – в виде таблицы, устанавливающей зависимость результата от исходных да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a50021"/>
                </a:solidFill>
                <a:latin typeface="Arial"/>
              </a:rPr>
              <a:t>Программный способ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писи – в виде текста на каком-либо языке программирования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 Black"/>
              </a:rPr>
              <a:t>Формы представления алгоритмов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95280" y="1916280"/>
            <a:ext cx="8291160" cy="4208400"/>
            <a:chOff x="395280" y="1916280"/>
            <a:chExt cx="8291160" cy="4208400"/>
          </a:xfrm>
        </p:grpSpPr>
        <p:cxnSp>
          <p:nvCxnSpPr>
            <p:cNvPr id="102" name="_s107562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732640" y="2406600"/>
              <a:ext cx="842400" cy="3227040"/>
            </a:xfrm>
            <a:prstGeom prst="bentConnector3">
              <a:avLst>
                <a:gd name="adj1" fmla="val 125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7559"/>
            <p:cNvCxnSpPr>
              <a:stCxn id="106" idx="0"/>
              <a:endCxn id="104" idx="2"/>
            </p:cNvCxnSpPr>
            <p:nvPr/>
          </p:nvCxnSpPr>
          <p:spPr>
            <a:xfrm flipV="1" rot="16200000">
              <a:off x="4656960" y="3482280"/>
              <a:ext cx="842400" cy="1075680"/>
            </a:xfrm>
            <a:prstGeom prst="bentConnector3">
              <a:avLst>
                <a:gd name="adj1" fmla="val 125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7558"/>
            <p:cNvCxnSpPr>
              <a:stCxn id="108" idx="0"/>
              <a:endCxn id="104" idx="2"/>
            </p:cNvCxnSpPr>
            <p:nvPr/>
          </p:nvCxnSpPr>
          <p:spPr>
            <a:xfrm flipH="1" flipV="1" rot="5400000">
              <a:off x="3582720" y="3483720"/>
              <a:ext cx="842400" cy="1073160"/>
            </a:xfrm>
            <a:prstGeom prst="bentConnector3">
              <a:avLst>
                <a:gd name="adj1" fmla="val 125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7557"/>
            <p:cNvCxnSpPr>
              <a:stCxn id="110" idx="0"/>
              <a:endCxn id="104" idx="2"/>
            </p:cNvCxnSpPr>
            <p:nvPr/>
          </p:nvCxnSpPr>
          <p:spPr>
            <a:xfrm flipH="1" flipV="1" rot="5400000">
              <a:off x="2508120" y="2409120"/>
              <a:ext cx="842400" cy="3222720"/>
            </a:xfrm>
            <a:prstGeom prst="bentConnector3">
              <a:avLst>
                <a:gd name="adj1" fmla="val 125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7553"/>
            <p:cNvSpPr/>
            <p:nvPr/>
          </p:nvSpPr>
          <p:spPr>
            <a:xfrm>
              <a:off x="3619440" y="1916280"/>
              <a:ext cx="1842480" cy="16833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орм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едставле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алгоритм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7554"/>
            <p:cNvSpPr/>
            <p:nvPr/>
          </p:nvSpPr>
          <p:spPr>
            <a:xfrm>
              <a:off x="395280" y="4441320"/>
              <a:ext cx="1842480" cy="16833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овес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7555"/>
            <p:cNvSpPr/>
            <p:nvPr/>
          </p:nvSpPr>
          <p:spPr>
            <a:xfrm>
              <a:off x="2544840" y="4441320"/>
              <a:ext cx="1842480" cy="16833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таблич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7556"/>
            <p:cNvSpPr/>
            <p:nvPr/>
          </p:nvSpPr>
          <p:spPr>
            <a:xfrm>
              <a:off x="4694400" y="4441320"/>
              <a:ext cx="1842480" cy="16833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граф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7561"/>
            <p:cNvSpPr/>
            <p:nvPr/>
          </p:nvSpPr>
          <p:spPr>
            <a:xfrm>
              <a:off x="6843960" y="4441320"/>
              <a:ext cx="1842480" cy="16833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ограмм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Графическая форма представления алгоритмов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09480" y="1971720"/>
          <a:ext cx="7925040" cy="4057560"/>
        </p:xfrm>
        <a:graphic>
          <a:graphicData uri="http://schemas.openxmlformats.org/drawingml/2006/table">
            <a:tbl>
              <a:tblPr/>
              <a:tblGrid>
                <a:gridCol w="2581560"/>
                <a:gridCol w="5343480"/>
              </a:tblGrid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Блок начала и конца алгоритма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Блок ввода или вывода данных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Блок присваивания 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(выполнения действий) 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Блок проверки условия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3" name="Овал 13"/>
          <p:cNvGrpSpPr/>
          <p:nvPr/>
        </p:nvGrpSpPr>
        <p:grpSpPr>
          <a:xfrm>
            <a:off x="900000" y="2060640"/>
            <a:ext cx="2200320" cy="914400"/>
            <a:chOff x="900000" y="2060640"/>
            <a:chExt cx="2200320" cy="914400"/>
          </a:xfrm>
        </p:grpSpPr>
        <p:pic>
          <p:nvPicPr>
            <p:cNvPr id="114" name="Овал 13" descr=""/>
            <p:cNvPicPr/>
            <p:nvPr/>
          </p:nvPicPr>
          <p:blipFill>
            <a:blip r:embed="rId1"/>
            <a:stretch/>
          </p:blipFill>
          <p:spPr>
            <a:xfrm>
              <a:off x="900000" y="2060640"/>
              <a:ext cx="2200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272960" y="2214720"/>
              <a:ext cx="14652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Ромб 8"/>
          <p:cNvGrpSpPr/>
          <p:nvPr/>
        </p:nvGrpSpPr>
        <p:grpSpPr>
          <a:xfrm>
            <a:off x="971640" y="5084640"/>
            <a:ext cx="1701720" cy="995400"/>
            <a:chOff x="971640" y="5084640"/>
            <a:chExt cx="1701720" cy="995400"/>
          </a:xfrm>
        </p:grpSpPr>
        <p:pic>
          <p:nvPicPr>
            <p:cNvPr id="117" name="Ромб 8" descr=""/>
            <p:cNvPicPr/>
            <p:nvPr/>
          </p:nvPicPr>
          <p:blipFill>
            <a:blip r:embed="rId2"/>
            <a:stretch/>
          </p:blipFill>
          <p:spPr>
            <a:xfrm>
              <a:off x="971640" y="5084640"/>
              <a:ext cx="1701720" cy="9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433520" y="5342040"/>
              <a:ext cx="7858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Параллелограмм 6"/>
          <p:cNvGrpSpPr/>
          <p:nvPr/>
        </p:nvGrpSpPr>
        <p:grpSpPr>
          <a:xfrm>
            <a:off x="971640" y="3068640"/>
            <a:ext cx="1914480" cy="920880"/>
            <a:chOff x="971640" y="3068640"/>
            <a:chExt cx="1914480" cy="920880"/>
          </a:xfrm>
        </p:grpSpPr>
        <p:pic>
          <p:nvPicPr>
            <p:cNvPr id="120" name="Параллелограмм 6" descr=""/>
            <p:cNvPicPr/>
            <p:nvPr/>
          </p:nvPicPr>
          <p:blipFill>
            <a:blip r:embed="rId3"/>
            <a:stretch/>
          </p:blipFill>
          <p:spPr>
            <a:xfrm>
              <a:off x="971640" y="3068640"/>
              <a:ext cx="19144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268280" y="3213000"/>
              <a:ext cx="132552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Прямоугольник 7"/>
          <p:cNvGrpSpPr/>
          <p:nvPr/>
        </p:nvGrpSpPr>
        <p:grpSpPr>
          <a:xfrm>
            <a:off x="971640" y="4076640"/>
            <a:ext cx="1774800" cy="981000"/>
            <a:chOff x="971640" y="4076640"/>
            <a:chExt cx="1774800" cy="981000"/>
          </a:xfrm>
        </p:grpSpPr>
        <p:pic>
          <p:nvPicPr>
            <p:cNvPr id="123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971640" y="4076640"/>
              <a:ext cx="17748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041480" y="4116240"/>
              <a:ext cx="16430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imes New Roman"/>
              </a:rPr>
              <a:t>Типы алгоритмов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24000" y="1844640"/>
            <a:ext cx="8362080" cy="4175280"/>
            <a:chOff x="324000" y="1844640"/>
            <a:chExt cx="8362080" cy="4175280"/>
          </a:xfrm>
        </p:grpSpPr>
        <p:cxnSp>
          <p:nvCxnSpPr>
            <p:cNvPr id="127" name="_s94220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5550480" y="2467800"/>
              <a:ext cx="835560" cy="2927520"/>
            </a:xfrm>
            <a:prstGeom prst="bentConnector3">
              <a:avLst>
                <a:gd name="adj1" fmla="val 20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94219"/>
            <p:cNvCxnSpPr>
              <a:stCxn id="131" idx="0"/>
              <a:endCxn id="129" idx="2"/>
            </p:cNvCxnSpPr>
            <p:nvPr/>
          </p:nvCxnSpPr>
          <p:spPr>
            <a:xfrm flipV="1">
              <a:off x="4504680" y="3513960"/>
              <a:ext cx="3240" cy="83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94218"/>
            <p:cNvCxnSpPr>
              <a:stCxn id="133" idx="0"/>
              <a:endCxn id="129" idx="2"/>
            </p:cNvCxnSpPr>
            <p:nvPr/>
          </p:nvCxnSpPr>
          <p:spPr>
            <a:xfrm flipH="1" flipV="1" rot="5400000">
              <a:off x="2624040" y="2468160"/>
              <a:ext cx="835560" cy="2927520"/>
            </a:xfrm>
            <a:prstGeom prst="bentConnector3">
              <a:avLst>
                <a:gd name="adj1" fmla="val 209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94214"/>
            <p:cNvSpPr/>
            <p:nvPr/>
          </p:nvSpPr>
          <p:spPr>
            <a:xfrm>
              <a:off x="3250800" y="1844640"/>
              <a:ext cx="2508480" cy="16700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типы алгоритм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94215"/>
            <p:cNvSpPr/>
            <p:nvPr/>
          </p:nvSpPr>
          <p:spPr>
            <a:xfrm>
              <a:off x="324000" y="4349880"/>
              <a:ext cx="2508480" cy="16700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линей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94216"/>
            <p:cNvSpPr/>
            <p:nvPr/>
          </p:nvSpPr>
          <p:spPr>
            <a:xfrm>
              <a:off x="3250800" y="4349880"/>
              <a:ext cx="2508480" cy="16700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ветвящий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94217"/>
            <p:cNvSpPr/>
            <p:nvPr/>
          </p:nvSpPr>
          <p:spPr>
            <a:xfrm>
              <a:off x="6177600" y="4349880"/>
              <a:ext cx="2508480" cy="16700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циклическ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7:11:28Z</dcterms:created>
  <dc:creator>Асель</dc:creator>
  <dc:description/>
  <dc:language>en-US</dc:language>
  <cp:lastModifiedBy>Асель</cp:lastModifiedBy>
  <dcterms:modified xsi:type="dcterms:W3CDTF">2011-11-06T22:30:51Z</dcterms:modified>
  <cp:revision>3</cp:revision>
  <dc:subject/>
  <dc:title>Алгоритмическое решение задач</dc:title>
</cp:coreProperties>
</file>